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FC32-C64A-45E5-9090-81A8F2DD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4CA0-1D0D-4B5E-A35E-D3B73600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181-33FB-4551-803A-038DDC4F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897-7A4D-4571-841D-5969B525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53D-14F4-461A-B3C2-EDEB8A8D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0EC-63E0-41FB-B754-DF2BA7C0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42C-277A-4F6B-BA3C-9753321A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065-E82F-4298-A9C7-B13F61D9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25E-4AFF-4FF9-B359-469A3CE8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F08-9C32-4D32-BF4B-D8427A9E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E7A-4241-4872-8937-35B59516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7CE-11DA-435B-8AC6-AC2D0592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D34-4A91-4272-A4F3-F88691E8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662-56B8-44C6-93EA-87E6CFEC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F8F9-6450-4E1C-9CAC-2F46F352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2590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7"/>
          <p:cNvSpPr/>
          <p:nvPr/>
        </p:nvSpPr>
        <p:spPr>
          <a:xfrm>
            <a:off x="76320" y="2971800"/>
            <a:ext cx="1752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!De nada, mi alta y divertida amiga. Podemos cantar y bailar 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5715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gracias. Sí, quiero y puedo ir a tu casa, Gracias mi simpática, linda y dulce amiga. ¡Hasta lueg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eren venir a mi casa a las  7 de trie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8:26:26Z</dcterms:modified>
  <cp:revision>110</cp:revision>
  <dc:subject/>
  <dc:title>Profile</dc:title>
</cp:coreProperties>
</file>